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AEC-2774-4601-80FA-B23D7749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617076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0920" y="5263920"/>
            <a:ext cx="617076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C17-4D2C-4750-9F91-6B7E9BAC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280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0920" y="5263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502800" y="5263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E6C-F605-41B7-B60F-8D4A9033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427480" y="2131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14040" y="2131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0920" y="5263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427480" y="5263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4514040" y="5263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A62-B752-412C-8979-BF60EC3D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CF39-9725-4BDF-864A-7115A29A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40920" y="2131920"/>
            <a:ext cx="617076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3D31-9070-4C00-96F3-EF145999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617076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0129-2F79-4E96-9A25-88DAFD00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301104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02800" y="2131920"/>
            <a:ext cx="301104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D4D5-0474-42FD-AFF9-B478061C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C682-53C1-4C0B-8CFD-62B8554B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40920" y="363240"/>
            <a:ext cx="61707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CDF5-9731-408F-9018-1C358ED2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2800" y="2131920"/>
            <a:ext cx="301104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0920" y="5263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EF43-E748-46EB-8046-6976950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0920" y="2131920"/>
            <a:ext cx="617076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772-9B78-405D-B9AD-087B1DE0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301104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0280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502800" y="5263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40F3-4F74-44AC-B038-E4BDFCCB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280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0920" y="5263920"/>
            <a:ext cx="617076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56AC-20A8-4E37-B713-67DFA0DE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617076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0920" y="5263920"/>
            <a:ext cx="617076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B0F9-BEBC-4D20-B196-D2575E87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280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40920" y="5263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502800" y="5263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470B-5197-48DC-8F10-A560FCA6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427480" y="2131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14040" y="2131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40920" y="5263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427480" y="5263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514040" y="5263920"/>
            <a:ext cx="19868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F675-B347-4C7C-8330-9AFD704C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617076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1A1-5719-4DBF-AD19-9466D002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301104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2800" y="2131920"/>
            <a:ext cx="301104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215-FFA7-4D1A-B619-C738DDAD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B50-9579-4C32-884F-D58E9922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40920" y="363240"/>
            <a:ext cx="61707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630-B526-4351-8D08-8D799A9A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02800" y="2131920"/>
            <a:ext cx="301104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0920" y="5263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BD9-92A1-4051-AE5B-CBAA9321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301104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280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2800" y="5263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E44-EA97-4028-8420-4D4B59E4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2800" y="2131920"/>
            <a:ext cx="301104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0920" y="5263920"/>
            <a:ext cx="6170760" cy="28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6BB-9289-4A05-AF44-DDE61A8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856200" cy="9141480"/>
            <a:chOff x="0" y="0"/>
            <a:chExt cx="6856200" cy="914148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855120" cy="220752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6856200" cy="9141480"/>
              <a:chOff x="0" y="0"/>
              <a:chExt cx="6856200" cy="914148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720" y="2201040"/>
                <a:ext cx="6855480" cy="37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8441280"/>
                <a:ext cx="6855120" cy="8856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7757640"/>
                <a:ext cx="6855120" cy="6336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7120080"/>
                <a:ext cx="6855120" cy="637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6572160"/>
                <a:ext cx="6855120" cy="65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6051240"/>
                <a:ext cx="6855120" cy="7632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5596200"/>
                <a:ext cx="6855120" cy="637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5149800"/>
                <a:ext cx="6855120" cy="7632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4781520"/>
                <a:ext cx="6855120" cy="504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442368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408096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3481920"/>
                <a:ext cx="6855120" cy="2520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376308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3217320"/>
                <a:ext cx="6855120" cy="2520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950560"/>
                <a:ext cx="6855120" cy="3816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709000"/>
                <a:ext cx="6855120" cy="3816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2491200"/>
                <a:ext cx="6855120" cy="3816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50760"/>
                <a:ext cx="6855120" cy="6336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39348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1005480"/>
                <a:ext cx="6855120" cy="504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71316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127008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538640"/>
                <a:ext cx="6855120" cy="37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780200"/>
                <a:ext cx="6855120" cy="37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995840"/>
                <a:ext cx="6855120" cy="3816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6855120" cy="2211480"/>
                <a:chOff x="0" y="0"/>
                <a:chExt cx="6855120" cy="22114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3391560" y="0"/>
                  <a:ext cx="47520" cy="22114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2856960" y="0"/>
                  <a:ext cx="184320" cy="22114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2341800" y="0"/>
                  <a:ext cx="285480" cy="22114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1848600" y="0"/>
                  <a:ext cx="419040" cy="22114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348560" y="0"/>
                  <a:ext cx="536760" cy="22114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48520" y="0"/>
                  <a:ext cx="642600" cy="22114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362880" y="0"/>
                  <a:ext cx="765360" cy="22114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228240"/>
                  <a:ext cx="748800" cy="198324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3798720" y="0"/>
                  <a:ext cx="184320" cy="22114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4204800" y="0"/>
                  <a:ext cx="285480" cy="22114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4547880" y="0"/>
                  <a:ext cx="428400" cy="22114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4927680" y="0"/>
                  <a:ext cx="534240" cy="22114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5333760" y="0"/>
                  <a:ext cx="642600" cy="22114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5676480" y="0"/>
                  <a:ext cx="761760" cy="22114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6055200" y="101520"/>
                  <a:ext cx="799920" cy="21099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1181160"/>
                <a:ext cx="6854760" cy="1029960"/>
                <a:chOff x="0" y="1181160"/>
                <a:chExt cx="6854760" cy="102996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1307520"/>
                  <a:ext cx="363960" cy="9032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6440760" y="1181160"/>
                  <a:ext cx="414000" cy="102996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13920" y="2199240"/>
                <a:ext cx="6190920" cy="6942240"/>
                <a:chOff x="313920" y="2199240"/>
                <a:chExt cx="6190920" cy="69422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3390120" y="2199240"/>
                  <a:ext cx="48600" cy="6942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2564280" y="2199240"/>
                  <a:ext cx="475920" cy="6942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1821600" y="2199240"/>
                  <a:ext cx="804240" cy="6942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042200" y="2199240"/>
                  <a:ext cx="1226520" cy="6942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313920" y="2199240"/>
                  <a:ext cx="1569600" cy="6942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3796920" y="2199240"/>
                  <a:ext cx="480600" cy="6942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4206600" y="2199240"/>
                  <a:ext cx="804240" cy="6942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4549320" y="2199240"/>
                  <a:ext cx="1233000" cy="6942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4925520" y="2199240"/>
                  <a:ext cx="1579320" cy="6942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2199240"/>
                <a:ext cx="1491480" cy="557064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2199240"/>
                <a:ext cx="1128240" cy="354708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2199240"/>
                <a:ext cx="748800" cy="198324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2199240"/>
                <a:ext cx="362880" cy="90360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5335920" y="2199240"/>
                <a:ext cx="1519200" cy="568512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5678640" y="2199240"/>
                <a:ext cx="1176120" cy="366192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6057720" y="2199240"/>
                <a:ext cx="797400" cy="21099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6443280" y="2199240"/>
                <a:ext cx="411840" cy="10303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340920" y="8322840"/>
            <a:ext cx="15987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2343240" y="8322840"/>
            <a:ext cx="2171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4915080" y="8322840"/>
            <a:ext cx="15984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3344-61EF-45C1-8BF5-5FC06AD966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340920" y="2131920"/>
            <a:ext cx="617076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6856200" cy="9141480"/>
            <a:chOff x="0" y="0"/>
            <a:chExt cx="6856200" cy="914148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6855120" cy="220752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6856200" cy="9141480"/>
              <a:chOff x="0" y="0"/>
              <a:chExt cx="6856200" cy="914148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720" y="2201040"/>
                <a:ext cx="6855480" cy="37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8441280"/>
                <a:ext cx="6855120" cy="8856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7757640"/>
                <a:ext cx="6855120" cy="6336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7120080"/>
                <a:ext cx="6855120" cy="637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6572160"/>
                <a:ext cx="6855120" cy="65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6051240"/>
                <a:ext cx="6855120" cy="7632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5596200"/>
                <a:ext cx="6855120" cy="637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5149800"/>
                <a:ext cx="6855120" cy="7632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4781520"/>
                <a:ext cx="6855120" cy="504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442368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408096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3481920"/>
                <a:ext cx="6855120" cy="2520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376308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3217320"/>
                <a:ext cx="6855120" cy="2520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950560"/>
                <a:ext cx="6855120" cy="3816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709000"/>
                <a:ext cx="6855120" cy="3816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2491200"/>
                <a:ext cx="6855120" cy="3816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50760"/>
                <a:ext cx="6855120" cy="6336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39348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1005480"/>
                <a:ext cx="6855120" cy="504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71316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1270080"/>
                <a:ext cx="6855120" cy="507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538640"/>
                <a:ext cx="6855120" cy="37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780200"/>
                <a:ext cx="6855120" cy="37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995840"/>
                <a:ext cx="6855120" cy="3816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6855120" cy="2211480"/>
                <a:chOff x="0" y="0"/>
                <a:chExt cx="6855120" cy="22114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3391560" y="0"/>
                  <a:ext cx="47520" cy="22114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2856960" y="0"/>
                  <a:ext cx="184320" cy="22114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2341800" y="0"/>
                  <a:ext cx="285480" cy="22114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1848600" y="0"/>
                  <a:ext cx="419040" cy="22114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348560" y="0"/>
                  <a:ext cx="536760" cy="22114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848520" y="0"/>
                  <a:ext cx="642600" cy="22114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362880" y="0"/>
                  <a:ext cx="765360" cy="22114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228240"/>
                  <a:ext cx="748800" cy="198324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3798720" y="0"/>
                  <a:ext cx="184320" cy="22114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4204800" y="0"/>
                  <a:ext cx="285480" cy="22114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4547880" y="0"/>
                  <a:ext cx="428400" cy="22114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4927680" y="0"/>
                  <a:ext cx="534240" cy="22114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5333760" y="0"/>
                  <a:ext cx="642600" cy="22114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5676480" y="0"/>
                  <a:ext cx="761760" cy="22114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6055200" y="101520"/>
                  <a:ext cx="799920" cy="21099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1181160"/>
                <a:ext cx="6854760" cy="1029960"/>
                <a:chOff x="0" y="1181160"/>
                <a:chExt cx="6854760" cy="102996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1307520"/>
                  <a:ext cx="363960" cy="9032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6440760" y="1181160"/>
                  <a:ext cx="414000" cy="102996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313920" y="2199240"/>
                <a:ext cx="6190920" cy="6942240"/>
                <a:chOff x="313920" y="2199240"/>
                <a:chExt cx="6190920" cy="69422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3390120" y="2199240"/>
                  <a:ext cx="48600" cy="6942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2564280" y="2199240"/>
                  <a:ext cx="475920" cy="6942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1821600" y="2199240"/>
                  <a:ext cx="804240" cy="6942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042200" y="2199240"/>
                  <a:ext cx="1226520" cy="6942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313920" y="2199240"/>
                  <a:ext cx="1569600" cy="6942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3796920" y="2199240"/>
                  <a:ext cx="480600" cy="6942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4206600" y="2199240"/>
                  <a:ext cx="804240" cy="6942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4549320" y="2199240"/>
                  <a:ext cx="1233000" cy="6942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4925520" y="2199240"/>
                  <a:ext cx="1579320" cy="6942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2199240"/>
                <a:ext cx="1491480" cy="557064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2199240"/>
                <a:ext cx="1128240" cy="354708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2199240"/>
                <a:ext cx="748800" cy="198324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2199240"/>
                <a:ext cx="362880" cy="90360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5335920" y="2199240"/>
                <a:ext cx="1519200" cy="568512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5678640" y="2199240"/>
                <a:ext cx="1176120" cy="366192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6057720" y="2199240"/>
                <a:ext cx="797400" cy="21099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6443280" y="2199240"/>
                <a:ext cx="411840" cy="10303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0920" y="363240"/>
            <a:ext cx="6170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40920" y="2131920"/>
            <a:ext cx="617076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340920" y="8322840"/>
            <a:ext cx="15987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343240" y="8322840"/>
            <a:ext cx="2171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4915080" y="8322840"/>
            <a:ext cx="15984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B062-9466-416A-9F0C-217A10C719F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5562720" cy="533520"/>
          </a:xfrm>
          <a:prstGeom prst="rect">
            <a:avLst/>
          </a:prstGeom>
          <a:solidFill>
            <a:srgbClr val="080808">
              <a:alpha val="44000"/>
            </a:srgbClr>
          </a:solidFill>
          <a:ln w="9360">
            <a:solidFill>
              <a:srgbClr val="eaeaea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ВНИМАНИЕ: СВАТТИНГ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Franklin Gothic Medium"/>
              </a:rPr>
              <a:t>Сваттинг</a:t>
            </a: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новый для Беларуси вид преступления. Хулиганы-геймеры отправляют в экстренные службы ложное сообщение об опасности от имени другого игрок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22400" y="3812040"/>
            <a:ext cx="66592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о всему миру полиция успешно устанавливает личности этих геймеров. В Беларуси за "сваттинг" предусмотрена ответственность по статье 340 Уголовного кодекса: вплоть до 7 лет лишения свободы! А если геймер не достиг возраста привлечения к уголовной ответственности, то отвечать за него придетс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одителям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0760" y="1685880"/>
            <a:ext cx="6248160" cy="9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о-первых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, ложные сообщения отвлекают экстренные службы от оказания помощи тем, кто в ней действительно нуждаетс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7" descr="exclamation-mark-clip-art-52"/>
          <p:cNvPicPr/>
          <p:nvPr/>
        </p:nvPicPr>
        <p:blipFill>
          <a:blip r:embed="rId1"/>
          <a:stretch/>
        </p:blipFill>
        <p:spPr>
          <a:xfrm>
            <a:off x="0" y="1522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exclamation-mark-clip-art-52"/>
          <p:cNvPicPr/>
          <p:nvPr/>
        </p:nvPicPr>
        <p:blipFill>
          <a:blip r:embed="rId2"/>
          <a:stretch/>
        </p:blipFill>
        <p:spPr>
          <a:xfrm>
            <a:off x="6248520" y="1522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IMG-77321397b08e443a4278183cce13297b-V"/>
          <p:cNvPicPr/>
          <p:nvPr/>
        </p:nvPicPr>
        <p:blipFill>
          <a:blip r:embed="rId3"/>
          <a:srcRect l="0" t="3921" r="0" b="32028"/>
          <a:stretch/>
        </p:blipFill>
        <p:spPr>
          <a:xfrm>
            <a:off x="266760" y="5486400"/>
            <a:ext cx="6324480" cy="28195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2"/>
          <p:cNvSpPr/>
          <p:nvPr/>
        </p:nvSpPr>
        <p:spPr>
          <a:xfrm>
            <a:off x="326880" y="2735280"/>
            <a:ext cx="6248520" cy="9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о-вторых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, такими «разводами» геймеры могут доставить большие неприятности с законом своим визав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1368360" y="5067360"/>
            <a:ext cx="42674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ПО ВСЕЙ СТРОГОСТИ ЗАКОНА!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WordArt 17"/>
          <p:cNvSpPr txBox="1"/>
          <p:nvPr/>
        </p:nvSpPr>
        <p:spPr>
          <a:xfrm>
            <a:off x="333360" y="8424720"/>
            <a:ext cx="53341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УПК КМ МВД Республики Беларусь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22" name="Picture 14" descr="D:\!!! ДОКУМЕНТЫ ГУПК\!! ИНФОГРАФИКА\! Символика ГУПК КМ МВД\НОВАЯ ЭМБЛЕМА\+ ЭМБЛЕМА ГУПК ИЗОБРАЖЕНИЕ\ЭМБЛЕМА ГУПК-600 dpi.png"/>
          <p:cNvPicPr/>
          <p:nvPr/>
        </p:nvPicPr>
        <p:blipFill>
          <a:blip r:embed="rId4"/>
          <a:stretch/>
        </p:blipFill>
        <p:spPr>
          <a:xfrm>
            <a:off x="5761080" y="8143920"/>
            <a:ext cx="9745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vanaUskas</dc:creator>
  <dc:description/>
  <dc:language>en-US</dc:language>
  <cp:lastModifiedBy>NAVI_2021</cp:lastModifiedBy>
  <dcterms:modified xsi:type="dcterms:W3CDTF">2022-03-16T09:09:1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